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787-03D0-4738-B069-8C100DF0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143-AEF8-4827-A5C2-0BE7779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017-931A-49FD-9BA9-8A0FA4F2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740-A1AD-4527-A1EE-15B20832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C73-4F29-4FB6-9E90-4DD0229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D4A-BD37-4947-8EEE-438B985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609-0E5F-4DA6-9AF0-3B762FC6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B4E-7372-49FB-8DF3-371CF1A5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C7B-1C36-4EE3-AEBB-83FC1ED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073-88D2-4831-8FE2-96A4769B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8D2-A1DA-48C1-9CB0-9939632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CA3-82BC-4D66-BBE7-0D123ABE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442-9338-45CC-BDC6-14F3C931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é le pasó a M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 día Maria amaneció de mal humor. Le dolía la cabeza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quería comer:No quería jugar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tampoco quería ir a la escu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tonces como Mari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quería comer,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mpezó a adelgaz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769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papás de Maria pensaron que estaba enferma, por que estaba de mal humor, no quería comer, no quería ir a la escuela y no quería jug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28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tonces los papás de Mari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llevaron al doctor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el doctor dijo que tenia lombri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l doctor explico que a vece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enemos lombrices por qu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no nos lavamos las man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ntes de co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0600" y="2781360"/>
            <a:ext cx="4762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a que a Maria se le quitaran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lombrices, el medico le di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as medicinas y después de una semana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ria ya se sentía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7577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dico se alegro mucho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 que Maria ya no tuviera lombric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le dijo que ya estaba cur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0600" y="2349360"/>
            <a:ext cx="4762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ambién le dijo que se tenia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lavar las manos muy bien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ntes de comer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ria ya se había cu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42:01Z</dcterms:created>
  <dc:creator>hp</dc:creator>
  <dc:description/>
  <dc:language>en-US</dc:language>
  <cp:lastModifiedBy>Javier</cp:lastModifiedBy>
  <dcterms:modified xsi:type="dcterms:W3CDTF">2008-02-07T00:38:14Z</dcterms:modified>
  <cp:revision>3</cp:revision>
  <dc:subject/>
  <dc:title>¿Qué le pasó a Maria?</dc:title>
</cp:coreProperties>
</file>